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809-C0FD-4C3D-9E8A-47D02500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8B5-8266-4882-9486-D9473094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967-0CDF-4B50-821D-B439B86F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B1E-16DB-496D-8480-67469744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9753-31B8-45B6-9C2A-3AE3D10E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1A70-9A26-46C5-B4DE-3C4DCC01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1C08-9A7D-4ECD-870D-3D3A71F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F268-5505-433E-A2BE-4F15287D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1DF8-370C-4B00-9EDE-FEAEB76B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0E0A-10EA-471D-85CE-34DDE611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41FE-4767-422D-B935-07B5C5F3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BC1-4FB4-42E3-B7CB-46456D9D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D38F-E213-4B4D-8269-943822F1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F769-EC65-412E-868F-511AB127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0BE5-9E72-4FEA-BEDB-EEF1CB47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47BD-B626-4582-96FD-4947CF36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CC2A-4B87-4380-BF08-F5BC149A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6C3-FE93-47BA-913A-58DDF480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44F-B3F7-457C-AEDD-20B5366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276-E18F-4704-8461-B5348779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223-FDB5-4A4D-8340-C745BD16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19E-6D6D-4F37-B110-6D31409D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951-0E32-4A1F-A088-591A3D6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B12-5F69-495C-842D-2B1D57C7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CC5D-FDF6-4DC3-813A-FEF2BC5FD7E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FA64-4A2A-43F6-8B17-010BA09DB8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1.- Clasificación (Tipos) y Diagnóstico en pacientes con DM (Criterios del Comité de Expertos de la ADA). Epidemiología. Intolerancia a los Hidratos de Carbono. DM Gestacional.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914400"/>
            <a:ext cx="838188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Síntomas de DM : poliuria, polidipsia, pérdida de peso sin explicación, 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Concentración de glucemia casual igual o mayor a 200 mg / dl, 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Glucemia en ayunas, en por lo menos dos ocasiones, igual o mayor a 126 mg / dl,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Con un valor de glucemia igual o mayor de 200 mg / dl, a las dos horas de una carga de glucosa oral d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75 gra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  <a:ea typeface="Times New Roman"/>
              </a:rPr>
              <a:t>CATEGORIAS DE GLUCEMIA EN AYUNAS :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Glucosa en ayunas normal: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menor de 110 mg / 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Glucemia en ayunas alterada: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Glucemia igual o mayor de 110 mg /dl y menor de 126 mg / 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M: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glucemia en ayunas igual o mayor a 126 mg / 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  <a:ea typeface="Times New Roman"/>
              </a:rPr>
              <a:t>CATEGORIAS DE GLUCEMIA POSCARGA A LAS 2 HORAS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olerancia a la glucosa normal :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Glucemia menor a 140 mg / 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olerancia a los hidratos de carbono :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glucemia igual o mayor a 140 mg / dl y menor a 200 mg / 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M :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Glucemia igual o mayor a 200 mg / d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76212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9900"/>
                </a:solidFill>
                <a:latin typeface="Arial"/>
                <a:ea typeface="Times New Roman"/>
              </a:rPr>
              <a:t>DIAGNOSTICO DE DM: CRITERIOS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65760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4100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914400"/>
            <a:ext cx="83818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Definición : “ Intolerancia a los hidratos de carbono de severidad variable que comienza o se diagnostica en el curso del presente embarazo” ( Alvariñas-Salzberg 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Prevalencia : 2.5-12.5 %,  en Argentina : 5 % . El 5 al 8 % cada año a D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Población en riesgo para DMG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Obes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Historia previa de D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Historia familiar de 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mbarazos previos con produtos macrosóm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76212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9900"/>
                </a:solidFill>
                <a:latin typeface="Arial"/>
                <a:ea typeface="Times New Roman"/>
              </a:rPr>
              <a:t>DIABETES MELLITUS GESTACIONAL ( DMG )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1143000"/>
            <a:ext cx="8001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TODAS 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las mujeres embarazadas se deben de practicar una prueba de escrutinio durante las semanas 24-28 de la gestación (mayor incremento de cortisol/LPH 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ueba de Escrutinio :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Carga de glucosa oral de 50 gr, con toma de muestra de sanguínea venosa al tiempo 0´ y 1 hora poscarga. Un valor igual o mayor a 140 mg / dl se considera una prueba positiva y se debe de hacer el diagnóstico definitivo c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rga de Glucosa oral de 100 grs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con toma de muestra a, y  valores d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0´------------</a:t>
            </a:r>
            <a:r>
              <a:rPr b="1" lang="es-MX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------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95 mg / 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1 hora -----</a:t>
            </a:r>
            <a:r>
              <a:rPr b="1" lang="es-MX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------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1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2 horas ------</a:t>
            </a:r>
            <a:r>
              <a:rPr b="1" lang="es-MX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---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1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3 horas ------</a:t>
            </a:r>
            <a:r>
              <a:rPr b="1" lang="es-MX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---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14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9900"/>
                </a:solidFill>
                <a:latin typeface="Arial"/>
                <a:ea typeface="Times New Roman"/>
              </a:rPr>
              <a:t>DIABETES MELLITUS GESTACIONAL ( DMG )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1143000"/>
            <a:ext cx="8001000" cy="57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Diagnóstico de acuerdo a lo reportado por SAD ( DM Tipo 2, no insulinodependiente : su diagnóstico, control y tratamiento. 1998, pag 177; Alvariñaz, Salzberg )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iagnóstico de DMG: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Glucemia en ayunas en dos ocasiones, igual o mayor a 105 mg / 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Si el valor previo es menor, se dará una carga de glucosa de 75 g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Se toma muestra de sangre venosa a las dos horas poscar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i el valor es igual o mayor a 140 mg / dl : DM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TODAS LAS PACIENTES DEBEN SER CANALIZADAS A</a:t>
            </a:r>
            <a:r>
              <a:rPr b="1" lang="es-MX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MÉDICOS ESPECIALISTAS,  PARA EL MANEJO OBSTÉTRICO Y METABÓLICO Y SEIS SEMANAS POSTERIORES AL PARTO SE LES DEBE DE PRACTICAR CARGA DE GLUCOSA CON 75 GRS PARA CLASIFICACIÓN FINAL</a:t>
            </a:r>
            <a:r>
              <a:rPr b="1" lang="es-MX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76212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9900"/>
                </a:solidFill>
                <a:latin typeface="Arial"/>
                <a:ea typeface="Times New Roman"/>
              </a:rPr>
              <a:t>Dos valores o más son diagnósticos de DMG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106668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9900"/>
                </a:solidFill>
                <a:latin typeface="Arial"/>
              </a:rPr>
              <a:t>Definició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4720"/>
            <a:ext cx="853452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La DM es un </a:t>
            </a:r>
            <a:r>
              <a:rPr b="1" lang="es-ES" sz="28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Grupo</a:t>
            </a:r>
            <a:r>
              <a:rPr b="1" lang="es-E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de alteraciones metabólicas, que se caracteriza por </a:t>
            </a:r>
            <a:r>
              <a:rPr b="1" lang="es-ES" sz="28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hiperglucemia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,</a:t>
            </a:r>
            <a:r>
              <a:rPr b="1" lang="es-E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secundaria a una alteración en la </a:t>
            </a:r>
            <a:r>
              <a:rPr b="1" lang="es-ES" sz="28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secreción o acción de la insulina, o de ambas</a:t>
            </a:r>
            <a:r>
              <a:rPr b="1" lang="es-E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, y que a largo plazo conduce a una </a:t>
            </a:r>
            <a:r>
              <a:rPr b="1" lang="es-ES" sz="28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disfunción, daño estructural y falla de órgano, como por ejemplo en los ojos, riñón, nervios, corazón y grandes vasos.</a:t>
            </a:r>
            <a:r>
              <a:rPr b="1" lang="es-ES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06668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9900"/>
                </a:solidFill>
                <a:latin typeface="Arial"/>
              </a:rPr>
              <a:t>Epidemiología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035000"/>
            <a:ext cx="853452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Problema </a:t>
            </a: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de Salud Mundial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. USA : 16 millones de pacientes con DM (</a:t>
            </a:r>
            <a:r>
              <a:rPr b="1" lang="es-ES" sz="2600" spc="-1" strike="noStrike" u="sng">
                <a:solidFill>
                  <a:srgbClr val="ffcc66"/>
                </a:solidFill>
                <a:uFillTx/>
                <a:latin typeface="Arial"/>
                <a:ea typeface="Times New Roman"/>
              </a:rPr>
              <a:t>número similar sin conocer o con algún grado de intolerancia a los HC) 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r>
              <a:rPr b="1" lang="es-ES" sz="26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rgentina :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</a:rPr>
              <a:t>Año 2000: 1.750.000 pacien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Edad : 20 a 65 añ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</a:rPr>
              <a:t>El 17 % con una edad entre 20 a 40 años.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LADA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.</a:t>
            </a:r>
            <a:r>
              <a:rPr b="1" lang="es-ES" sz="2600" spc="-1" strike="noStrike" u="sng">
                <a:solidFill>
                  <a:srgbClr val="ffcc66"/>
                </a:solidFill>
                <a:uFillTx/>
                <a:latin typeface="Arial"/>
                <a:ea typeface="Times New Roman"/>
              </a:rPr>
              <a:t> Mundialmente : solo el </a:t>
            </a:r>
            <a:r>
              <a:rPr b="1" lang="es-ES" sz="26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17-20 %</a:t>
            </a:r>
            <a:r>
              <a:rPr b="1" lang="es-ES" sz="2600" spc="-1" strike="noStrike" u="sng">
                <a:solidFill>
                  <a:srgbClr val="ffcc66"/>
                </a:solidFill>
                <a:uFillTx/>
                <a:latin typeface="Arial"/>
                <a:ea typeface="Times New Roman"/>
              </a:rPr>
              <a:t> de los pacientes con DM los ve el “Especialista”; el resto, </a:t>
            </a:r>
            <a:r>
              <a:rPr b="1" lang="es-ES" sz="26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l 80 %;</a:t>
            </a:r>
            <a:r>
              <a:rPr b="1" lang="es-ES" sz="2600" spc="-1" strike="noStrike" u="sng">
                <a:solidFill>
                  <a:srgbClr val="ffcc66"/>
                </a:solidFill>
                <a:uFillTx/>
                <a:latin typeface="Arial"/>
                <a:ea typeface="Times New Roman"/>
              </a:rPr>
              <a:t> los ve el Médico de “ Primer Contacto” 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06668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9900"/>
                </a:solidFill>
                <a:latin typeface="Arial"/>
                <a:ea typeface="Times New Roman"/>
              </a:rPr>
              <a:t>PRINCIPALES TIPOS DE DM.</a:t>
            </a:r>
            <a:r>
              <a:rPr b="1" lang="es-ES" sz="31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035000"/>
            <a:ext cx="853452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. Diabetes Mellitus Tipo 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. Diabetes Mellitus Tipo 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. Diabetes Mellitus Latente autoinmune del Adul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  </a:t>
            </a: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(LA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. Diabetes Mellitus Tipo MOD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. Diabetes Mellitus Gestac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s-ES" sz="3100" spc="-1" strike="noStrike">
                <a:solidFill>
                  <a:srgbClr val="ff9900"/>
                </a:solidFill>
                <a:latin typeface="Arial"/>
                <a:ea typeface="Times New Roman"/>
              </a:rPr>
              <a:t>ESTADIOS “PREDIABETICOS”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. Intolerancia a los hidratos de Carbon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. Glucemia en ayunas Alterad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02920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91440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522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9900"/>
                </a:solidFill>
                <a:latin typeface="Arial"/>
                <a:ea typeface="Arial"/>
              </a:rPr>
              <a:t>DIABETES MELLITUS TIPO 1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03500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Anteriormente llamada “ Diabetes insulino-dependiente/Diabetes Juvenil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Resulta de la destrucción autoinmune ( mediada por células ) de las Células Beta Pancreáticas =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fermedad Autoinmu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resencia de marcadores de la respuesta inmune. Autoanticuerpos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. </a:t>
            </a:r>
            <a:r>
              <a:rPr b="1" lang="es-MX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Contra las células de los Islotes : 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. </a:t>
            </a:r>
            <a:r>
              <a:rPr b="1" lang="es-MX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Contra la Insulina : IA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. </a:t>
            </a:r>
            <a:r>
              <a:rPr b="1" lang="es-MX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Contra de decarboxilasa del ácido glutámico : G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. </a:t>
            </a:r>
            <a:r>
              <a:rPr b="1" lang="es-MX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Contra la fosfatasa de la tirosina : IA-2, IA2-be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Fuerte asociación con el Complejo Mayor de Histocompatibilidad (HLA), en el brazo corto del cromosoma 6, influenciado por los genes DR y fuertemente ligado a los genes DQA/DQB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(carácter de predisposició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La  taza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trucción</a:t>
            </a: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de la célula beta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s vari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La cetoacidosis suele ser, en niños y jóvenes, la primera manifestación clín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Niveles de Péptidos C bajos o no detectables (glucag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Sobrepeso/obesidad no es incompatible con el diagnóst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Se asocia a otras enfermedades autoinmu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83808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763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9900"/>
                </a:solidFill>
                <a:latin typeface="Arial"/>
                <a:ea typeface="Times New Roman"/>
              </a:rPr>
              <a:t>DIABETES MELLITUS TIPO 2</a:t>
            </a:r>
            <a:r>
              <a:rPr b="1" lang="es-ES" sz="31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914400"/>
            <a:ext cx="8534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Previamente conocida como DM no insulinodependiente o DM del Adul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istencia a la insulina/Deficiencia relativa de insulina ( disfunción de la célula beta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Inicialmente o durante largo tiempo de su vida, no necesitan de insulina para vivi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Causas múltiples :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ligé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No existe destrucción autoinmune de la célula be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esidad/sedentarismo : causas principales del medio ambiente. Obesidad abdominal/visce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Raramente ocurre cetoacido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ermanece sin diagnóstico por muchos años previos al cuadro clínico o daño a diferentes órg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iesgo incrementado para complicaciones a largo plazo micro/macroangiopát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Valores basales de insulina incialmente “normales” o elevados ( hiperinsulinismo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curre más frecuente en mujeres con previa DMG, individuos con GAA, IHC, subgrupos étnicos/raciales y en sujetos con HTA o dislipidem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Frecuentemente asociada a una predisposición genétic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21932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4382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Pacientes adultos ( 25-40 años ), con DM, inicialmente no requirientes de insulina, con marcadores inmunes de DM Tipo 1, que progresan a insulino-dependientes ( Tuomi, Zimmet, Diabetes1993 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trucción lenta de la masa celular be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Predisposición genética menos marca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Posible contribución a genes protec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Regeneración parcial de la célula beta ( insulitis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Inducción de tolerancia inmu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Exposición menor a factores ambientales</a:t>
            </a:r>
            <a:r>
              <a:rPr b="1" lang="es-MX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21932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522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9900"/>
                </a:solidFill>
                <a:latin typeface="Arial"/>
                <a:ea typeface="Times New Roman"/>
              </a:rPr>
              <a:t>DIABETES MELLITUS LATENTE AUTOINMUNE DEL ADULTO ( LADA )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523880"/>
            <a:ext cx="838188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i- GAD/ ICA más frecuentemente encontr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Requerimiento temprano de insulina o “falla primaria” a antidiabéticos o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Péptido C bajo o no detectable. Respuesta negativa a la prueba de Glucag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Obesidad : 13 al 18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FENOTIPO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Edad menor a 40 añ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IMC MENOR DE 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Glucemia al dignóstico mayor de 250 mg/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HbA1c al diagnóstico mayor de 8.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Antecedentes familiares nega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37160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37160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04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9900"/>
                </a:solidFill>
                <a:latin typeface="Arial"/>
                <a:ea typeface="Times New Roman"/>
              </a:rPr>
              <a:t>DIABETES MELLITUS LATENTE AUTOINMUNE DEL ADULTO ( LADA )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914400"/>
            <a:ext cx="838188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Grupo de pacientes con DM por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fectos Genéticos</a:t>
            </a:r>
            <a:r>
              <a:rPr b="1" lang="es-ES" sz="20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de la Célula Be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DM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onogénica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Mutaciones específicas de un gen cromosóm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Factores de Transcripción que regulan la expresión del gen de la insulina o de enzimas específicas de la célula be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Comienzo de la hiperglucemia a una edad temprana. Generalmente antes de los 25 años de e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Secreción de insulina alterada.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sulinope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Acción de la insulina en términos generales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Patrón de inherencia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utosómico Dominante. Historia famili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Prevalencia del 0,3-1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Asintomática, comienzo insidioso, no requiriente de insul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Autoinmunidad negat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No cetoacidosis o raramente presen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Obesidad no frecu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Responden a Sulfonilu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Plan de alimento y ejercicio mandat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Identificación : estudios genéticos molecular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762120"/>
            <a:ext cx="8001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9900"/>
                </a:solidFill>
                <a:latin typeface="Arial"/>
                <a:ea typeface="Times New Roman"/>
              </a:rPr>
              <a:t>DIABETES MELLITUS TIPO MODY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04:02:52Z</dcterms:created>
  <dc:creator>Zarpy</dc:creator>
  <dc:description/>
  <dc:language>en-US</dc:language>
  <cp:lastModifiedBy>joesca</cp:lastModifiedBy>
  <dcterms:modified xsi:type="dcterms:W3CDTF">2003-08-29T20:18:59Z</dcterms:modified>
  <cp:revision>77</cp:revision>
  <dc:subject/>
  <dc:title>Presentación de PowerPoint</dc:title>
</cp:coreProperties>
</file>